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5FC3-CE12-4803-9883-ECABE0790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B7DE-6336-478A-BF76-B91CB8B24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1AC8-29BD-4943-96BA-E8089B400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822-EB53-4F7A-8EC2-A8750659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638-A456-4316-8CA7-C085EA77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78E-576A-4632-8B00-FFC52B57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65E-848B-4BC9-8E37-85262FF4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8C0-E13B-41D5-AD39-AFAA44FE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DF2-0AD2-4015-9269-52B91BD7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F9D-13F2-4EE2-94DB-72053D27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8C3-6B86-4731-8830-537F009C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EFD5-6D58-4D40-8C75-87AFF54C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7F3-9AFA-4CF7-BD1D-8F622F1E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1CA-6EC2-4BBD-9A67-EF6516D1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AB6-57F6-4E92-B076-A18E0555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A6C7-9AB2-497A-9450-27E1A912B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Strateg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reate this page in your spiral) R.N. pg. 25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5410080"/>
          <a:ext cx="8686800" cy="254952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25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RSTON’S PURPOSE: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how the strength  of her community.  To  share her personal experience and show the vitality of the African American community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50" name="Down Arrow 4"/>
          <p:cNvSpPr/>
          <p:nvPr/>
        </p:nvSpPr>
        <p:spPr>
          <a:xfrm>
            <a:off x="1295280" y="44197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own Arrow 5"/>
          <p:cNvSpPr/>
          <p:nvPr/>
        </p:nvSpPr>
        <p:spPr>
          <a:xfrm>
            <a:off x="7238880" y="44197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wn Arrow 6"/>
          <p:cNvSpPr/>
          <p:nvPr/>
        </p:nvSpPr>
        <p:spPr>
          <a:xfrm>
            <a:off x="4419720" y="44197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066680"/>
          <a:ext cx="8229600" cy="3353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ACT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In your spirals create your own foldable.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760"/>
                <a:gridCol w="433404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mmarize The Harlem Renaissance pgs. 896-89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f the Renaissance were happening now which artists would be effective and why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Connected Vide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rite your response to the prompt he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ssential Ques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          (write your response to the prom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7" name="AutoShape 21"/>
          <p:cNvSpPr/>
          <p:nvPr/>
        </p:nvSpPr>
        <p:spPr>
          <a:xfrm>
            <a:off x="3200400" y="2209680"/>
            <a:ext cx="2895480" cy="22860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2590920" y="2823120"/>
            <a:ext cx="4038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  “</a:t>
            </a: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Dust Trac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on a Road” PHLit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In your spirals create your own foldable. 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760"/>
                <a:gridCol w="433404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ry Analysi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 pg 928 to define social context, dialogue, &amp; diale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Strateg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 pg 928 to answer this question-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should you note when analyzing the effect of the auth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s purpose on meaning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a Neale Hurst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1-1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 pg 929 &amp; write Hurston facts from each par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sed on what you’ve learned about Hurston, the title and the pictures make a prediction about this autobiograph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AutoShape 21"/>
          <p:cNvSpPr/>
          <p:nvPr/>
        </p:nvSpPr>
        <p:spPr>
          <a:xfrm>
            <a:off x="3200400" y="2209680"/>
            <a:ext cx="2895480" cy="22860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2590920" y="2823120"/>
            <a:ext cx="4038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  “</a:t>
            </a: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Dust Trac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on a Road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7:30:35Z</dcterms:created>
  <dc:creator>nvasquez</dc:creator>
  <dc:description/>
  <dc:language>en-US</dc:language>
  <cp:lastModifiedBy>Nvasquez</cp:lastModifiedBy>
  <dcterms:modified xsi:type="dcterms:W3CDTF">2011-02-09T22:40:29Z</dcterms:modified>
  <cp:revision>9</cp:revision>
  <dc:subject/>
  <dc:title>Use a piece of blank paper to create your own “Piece of the Pie” foldable.</dc:title>
</cp:coreProperties>
</file>